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E87B-7500-436F-85CF-91749447A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5005-6AB8-4DB6-A112-CE0CE408B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A9D4-ECB7-4CF2-A4E1-B36A2EE8E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8B52-9356-4BC8-9449-6B3C01965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9F57C7-2FE9-4DFE-8752-AC2B719F6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998AE2-AEF4-4598-B960-48E4365BF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B3C640-20D4-47F4-B0F3-268629454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65BE8C-85F5-4F5D-92F2-54253B9FE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91356A-165E-4302-86F1-F05C69A4A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8153EA-C12E-4F50-8E38-3A00EDC0C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24BA27-C394-4E49-BB03-9A44821B4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5668-3931-49DD-B7D3-B4D6C714B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425C5B-54FA-47A8-BF5C-797FB3CD8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10289B-F8C3-4C40-87AF-1611CB394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A0C4EE-3550-4115-9CCC-0AA212DC0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352E9A-3270-424A-A867-5A6CEE2FC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9F551A-8F69-441B-9FF3-9EEDA789F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2F1E-A109-48A5-A18E-A57B8DE19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FEA8-7325-465A-B99D-097CF125E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50A7-A5FC-4667-AF14-DD058E5F7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5ED6-1DEA-4663-95FD-08EA452E1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C62A-FA0A-44C5-BE4D-282BDCF0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3414-6871-499F-8172-5DD7FD865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772D-5C6C-4AEE-9CD6-10E44F95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7FA94-18EF-455E-84A5-B0086BA4D1F2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DB6CB-51A2-4113-9F1D-01984E3281BA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609480" y="1676520"/>
            <a:ext cx="81536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gravimetric analysis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avimetric analysis, by definition, includes all methods of analysis in which the final stage of the analysis involves weighing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e most basic case, this could involve simply heating a sample to dryness and weighing to determine the amount of volatile components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is account, however, I shall limit myself to gravimetric methods which rely on the use of precipitation reacti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752480" y="304920"/>
            <a:ext cx="487692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ntroduction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3059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quantitative determination of a substance by precipitation followed by isolation and weighing of the precipitate is  called  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gravimetric analysis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basic method of gravimetric analysis is fairly straightforward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weighed sample is dissolved after which an excess of a precipitating agent is added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recipitate which forms is filtered, dried or ignited and weighed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om the mass and known composition of the precipitate, the amount of the original ion can be determin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600"/>
                </a:solidFill>
                <a:latin typeface="Tahoma"/>
              </a:rPr>
              <a:t>For successful determinations the following criteria must be met</a:t>
            </a:r>
            <a:r>
              <a:rPr b="0" lang="en-US" sz="4000" spc="-1" strike="noStrike">
                <a:solidFill>
                  <a:srgbClr val="00c600"/>
                </a:solidFill>
                <a:latin typeface="Tahoma"/>
              </a:rPr>
              <a:t> 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desired substance must be completely precipitated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most determinations the precipitate is of such low solubility that losses from dissolution are negligible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 additional factor is the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"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mon ion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"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ffect, this further reduces the solubility of the precipitate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Ag is precipitated out by addition of C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Tahoma"/>
              </a:rPr>
              <a:t>Ag+ + Cl- =&lt;-&gt; AgCl(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***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the (low) solubility of AgCl is reduced still further by the excess of Cl- which is added, pushing the equilibrium to the right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weighed form of the product should be of known composi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roduct should be "pure" and easily filtered. It is usually difficult to obtain a product which is "pure", i.e. one which is free from impurities but careful precipitation and sufficient washing helps reduce the level of impurit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80880" y="914400"/>
            <a:ext cx="82011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ith my best wishes to succeed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057400" y="3166920"/>
            <a:ext cx="4572000" cy="102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Islam.N.S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286000" y="4876920"/>
            <a:ext cx="4114800" cy="16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***STAR***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LADIATOR_2008</cp:lastModifiedBy>
  <dcterms:modified xsi:type="dcterms:W3CDTF">2008-11-22T15:45:51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